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9402-9B40-48D5-AFA4-AB804DB262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64B-E3C5-4A1C-8EBA-BDBE3C5A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733-4C46-410E-ABBB-06413D93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3E8-0825-495F-B1F4-14679307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6B5-3B7D-4F40-A7B1-EE8C7CB8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E939-7084-40DA-9125-07F8B400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ED6A-00BF-4405-8516-65D63C88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CAFB-FB96-4DD9-836B-720C953B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7CA7-0955-4ED0-AC15-3B84BB34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29D5-3315-4D7E-B7EC-86332B97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7F38-D77B-47DC-9DA6-B406FB11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E173-80C9-4BFD-900C-CB2E58A4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7EB-A05C-4BDD-84E4-22C570A6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DC13-4CAB-40B8-91E8-69EA4C8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5E95-7867-4194-8C23-2FBF16A6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A486-20E3-4E5C-8EB7-7D2A96F9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009D-A90C-40E9-9F88-3CBE7ED0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81F6-79E8-4B4B-8EB4-1467A755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6DA-4835-49EF-B90C-C795C07E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BC9-0BE8-41A3-AFF3-C1518298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50D-1B0A-4DCB-B7A3-A641D752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6A0-F553-4865-ACB4-E5AACC4D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87C-3E2B-4B9A-9B25-F9C36DE4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EE9-D781-4619-B54D-4121AFC8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053-086A-4544-BBC9-E9FB6F07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149B-F324-4F17-B3C6-55804396D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0198-CB4C-46F6-8FB9-B7CEF2B04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066680" y="2362320"/>
            <a:ext cx="7010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LONG DIVISION 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CAN BE EASY!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</a:t>
            </a:r>
            <a:r>
              <a:rPr b="0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441972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’re moving the second part of your dividend into your workspa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4419720" y="4038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4876920" y="4419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w!  You’ve just completed every step of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!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wait!  There’s mo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6"/>
          <p:cNvSpPr/>
          <p:nvPr/>
        </p:nvSpPr>
        <p:spPr>
          <a:xfrm rot="15737400">
            <a:off x="5188680" y="3878280"/>
            <a:ext cx="1073160" cy="1087560"/>
          </a:xfrm>
          <a:custGeom>
            <a:avLst/>
            <a:gdLst>
              <a:gd name="textAreaLeft" fmla="*/ 187560 w 1073160"/>
              <a:gd name="textAreaRight" fmla="*/ 777960 w 1073160"/>
              <a:gd name="textAreaTop" fmla="*/ 145440 h 1087560"/>
              <a:gd name="textAreaBottom" fmla="*/ 94212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114800" y="1676520"/>
          <a:ext cx="5029200" cy="4529160"/>
        </p:xfrm>
        <a:graphic>
          <a:graphicData uri="http://schemas.openxmlformats.org/drawingml/2006/table">
            <a:tbl>
              <a:tblPr/>
              <a:tblGrid>
                <a:gridCol w="2438280"/>
                <a:gridCol w="259092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Line 12"/>
          <p:cNvSpPr/>
          <p:nvPr/>
        </p:nvSpPr>
        <p:spPr>
          <a:xfrm>
            <a:off x="243828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91120" y="1371600"/>
          <a:ext cx="4419360" cy="4495680"/>
        </p:xfrm>
        <a:graphic>
          <a:graphicData uri="http://schemas.openxmlformats.org/drawingml/2006/table">
            <a:tbl>
              <a:tblPr/>
              <a:tblGrid>
                <a:gridCol w="2211120"/>
                <a:gridCol w="220824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13"/>
          <p:cNvSpPr/>
          <p:nvPr/>
        </p:nvSpPr>
        <p:spPr>
          <a:xfrm>
            <a:off x="2895480" y="38098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518112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4 becomes the second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You’re almost don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4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4 = 12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4495680" y="2590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286000" y="3733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!  We know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-12 =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Leave your 2 in it’s spot, because we’re going to use it for the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41972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’re moving the next part of your dividend into your workspac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wait!!  There’s nothing to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!!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OK!  You have no more numbers in your dividend to add to your workspace so you’re almost done!  If there was a third number in our dividend, then we would start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over again!  You want to keep going until you hav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bring do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4419720" y="22096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502920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3a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2120" y="12193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L.O -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know how to use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work out long divi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.T-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cc"/>
                </a:solidFill>
                <a:latin typeface="Comic Sans MS"/>
              </a:rPr>
              <a:t>(Remember To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what you have left over (or what is remaining) after you have nothing to bring dow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R -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problem, 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2  because 14-12 = 2.  Write your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to your ans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410080" y="3124080"/>
            <a:ext cx="609840" cy="1524240"/>
          </a:xfrm>
          <a:custGeom>
            <a:avLst/>
            <a:gdLst>
              <a:gd name="textAreaLeft" fmla="*/ 0 w 609840"/>
              <a:gd name="textAreaRight" fmla="*/ 522720 w 609840"/>
              <a:gd name="textAreaTop" fmla="*/ 101628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495680" y="2971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449568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order of operations for division.  It stands for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ubtrac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ring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of groups we are dividing into or the number we are dividing by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we break into groups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8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quoti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answer in divis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2666880" y="3048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3352680" y="3886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1676520" y="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Review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2480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try these problems on your own!  Remember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’re finished, move to the next slide to check your answ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3520" y="3200400"/>
          <a:ext cx="8381880" cy="28954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28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18"/>
          <p:cNvSpPr/>
          <p:nvPr/>
        </p:nvSpPr>
        <p:spPr>
          <a:xfrm>
            <a:off x="14479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35053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20"/>
          <p:cNvSpPr/>
          <p:nvPr/>
        </p:nvSpPr>
        <p:spPr>
          <a:xfrm>
            <a:off x="56386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76960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57200" y="2133720"/>
          <a:ext cx="8381880" cy="41018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 r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 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Line 16"/>
          <p:cNvSpPr/>
          <p:nvPr/>
        </p:nvSpPr>
        <p:spPr>
          <a:xfrm>
            <a:off x="13716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4290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55627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76201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752480" y="30481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38862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59436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807732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did a really awesome job with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!  Long division can be easy!  And when you need a little help just think of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819520" y="5715000"/>
            <a:ext cx="36860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eep dividing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s scary, huh?  Well, when you use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simple.  Move to the next slide to get starte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25744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19920" y="23623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.  The dividend is the number we break into grou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09480" y="2438280"/>
            <a:ext cx="2057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4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1" i="1" lang="en-US" sz="1400" spc="-1" strike="noStrike">
                <a:solidFill>
                  <a:srgbClr val="ff66ff"/>
                </a:solidFill>
                <a:latin typeface="Comic Sans MS"/>
              </a:rPr>
              <a:t>. </a:t>
            </a: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e divisor is the number of groups we are dividing into or the number we are dividing b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05480" y="1828800"/>
          <a:ext cx="3776400" cy="3657600"/>
        </p:xfrm>
        <a:graphic>
          <a:graphicData uri="http://schemas.openxmlformats.org/drawingml/2006/table">
            <a:tbl>
              <a:tblPr/>
              <a:tblGrid>
                <a:gridCol w="1888920"/>
                <a:gridCol w="1887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ine 14"/>
          <p:cNvSpPr/>
          <p:nvPr/>
        </p:nvSpPr>
        <p:spPr>
          <a:xfrm>
            <a:off x="2438280" y="4724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19720" y="1905120"/>
          <a:ext cx="4572000" cy="3657600"/>
        </p:xfrm>
        <a:graphic>
          <a:graphicData uri="http://schemas.openxmlformats.org/drawingml/2006/table">
            <a:tbl>
              <a:tblPr/>
              <a:tblGrid>
                <a:gridCol w="2287440"/>
                <a:gridCol w="22845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Line 13"/>
          <p:cNvSpPr/>
          <p:nvPr/>
        </p:nvSpPr>
        <p:spPr>
          <a:xfrm>
            <a:off x="3733920" y="403848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4"/>
          <p:cNvSpPr/>
          <p:nvPr/>
        </p:nvSpPr>
        <p:spPr>
          <a:xfrm flipH="1">
            <a:off x="5105160" y="35053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2 becomes the first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The quotient is the answer in divis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441972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2= 6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41972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2057400" y="35812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2:41:07Z</dcterms:created>
  <dc:creator>corinn</dc:creator>
  <dc:description/>
  <dc:language>en-US</dc:language>
  <cp:lastModifiedBy>LEGION</cp:lastModifiedBy>
  <dcterms:modified xsi:type="dcterms:W3CDTF">2015-09-08T10:01:39Z</dcterms:modified>
  <cp:revision>22</cp:revision>
  <dc:subject/>
  <dc:title>Long Division Can Be Easy!</dc:title>
</cp:coreProperties>
</file>